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2F3-5180-4570-AD50-3FF9C9D4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67B-4373-4B67-B85B-EC781FF8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3F2-3BC0-4DBB-9E13-7DFD8393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C6E-8DE4-49D1-A41B-283753B8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878-5881-4343-8944-86B5CEFC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F1C-2B75-4EAE-BB46-AB458AF9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17B-B3EE-4A55-8987-C7A7586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F72-FF25-4BEA-93AC-CC2832F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D5E-EDE1-47A4-9035-1D79E2AF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6A0-28F7-42E7-90CF-5CB9FCE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24E-4A23-446B-BF22-EDD38FB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738-0F19-4965-8551-DCCE3006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C84D-96FE-4816-8F59-1F6836390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fic.org/publications/brochures/upload/sucralosebrochure.pd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ll-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Observ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had a hard time picking just one fl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ppl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having a party you can know which flavor of Jell-O people would en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Causes of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sible cause of error was I did not have all of the flavors of Jell-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do this experiment again but with all flavors of jell-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1: 45minuts, September 1: 45minuts, September 2: 45minuts September 3: 45minuts, September 4: 45minuts, September 14: 45minuts, September 15, 45minuts, September 16: 45minuts, September 28: 45minuts, September 29: 45minuts, October 12: 45minuts October 13: 45minutes, November 6: 7minuts, November 7: 20minuts, February 9 45minu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fic.org/publications/brochures/upload/sucralosebrochu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Acesulfame_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Aspart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Sugar_substit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Jell-O flavor do people pre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question is which Jell-O  flavor people like th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ll-O is a dessert made out of Gelatin. Gelatin used to be made out of parts of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substitutes are made from things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Artificial</a:t>
            </a:r>
            <a:r>
              <a:rPr b="1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weeteners are chemical m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 most popular flavor will be Strawbe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five Jell-O fla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all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them to circle their favorite fl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for all te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people voted for straw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 voted for L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 voted for Gr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eople voted for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people voted for Ch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correct. Most people voted for Strawb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09-04-22T19:24:48Z</cp:lastPrinted>
  <dcterms:modified xsi:type="dcterms:W3CDTF">2010-02-11T16:06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